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9EC4-7129-43F2-AEE5-EC8548F88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4D2C-FD66-47A3-B5A5-03748D00A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18D0-B41A-4127-B1C7-853E8A1A9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2109-BBCD-4F4F-B0F5-90113A00F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042E-F8C5-4DBD-B417-E9903C6CE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B998-04E8-4FB6-8328-5301404DA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7B0F-508F-4328-9329-E224F5746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4FFD-56BF-4F96-8AB0-D051B01F8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1479-E8D8-4214-A8FD-577675136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CFB3-B7D9-4503-876A-30548230D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8A74-FD7C-4B1C-A445-1FF2F504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1FED-492F-4FF0-B676-4187466BC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5EA59-E13F-4488-9680-B64C51EB1E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2981160" cy="2286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04920" y="2819520"/>
            <a:ext cx="4486320" cy="345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809880" y="4038480"/>
            <a:ext cx="335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When the user types something in the cm textbox, the number of inches is calcu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 flipV="1">
            <a:off x="2742840" y="4114440"/>
            <a:ext cx="10666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86200" y="54100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he calculation is done by the user defined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 flipV="1">
            <a:off x="2514240" y="5486040"/>
            <a:ext cx="1219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19920" y="342900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User defined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4800600" y="3657600"/>
            <a:ext cx="12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14:58:59Z</dcterms:created>
  <dc:creator>IS</dc:creator>
  <dc:description/>
  <dc:language>en-US</dc:language>
  <cp:lastModifiedBy>IS</cp:lastModifiedBy>
  <dcterms:modified xsi:type="dcterms:W3CDTF">2008-11-20T15:01:20Z</dcterms:modified>
  <cp:revision>1</cp:revision>
  <dc:subject/>
  <dc:title>Slide 1</dc:title>
</cp:coreProperties>
</file>